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A97-8A80-434B-871B-DFBEE573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F0D-3614-453C-81F9-E7C6892B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A8D-19B6-4CDF-94B0-14CAA931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170-F843-4BEC-9A5B-65618F2F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777-13BD-4F9C-8200-98523DE0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6FA-CF3F-49B6-9961-6F304E04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817-1BFF-48A2-9B8C-0166DB83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171-7F7B-49A4-AD88-2A9CF54B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9E2-EE2A-43E5-9CA3-CB7D55B5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AC4-60A0-4F9F-AC07-29E10C0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0CC-2709-4A78-9D56-45841395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E51-4717-4CD7-976D-D36CC46D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0C98-876F-4B1C-8334-FDEAC575B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442547/index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443819/index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tish Asians in 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s: to explore the history and issues around Asian representations in UK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were some of the traditional Indo-Asian stereotypes we discussed earli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ould be said that British Asian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der-represen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other areas of the media notably, film and music. What were some of the reasons for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som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of the criteria of the Media and Collective Identity unit is 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explore how contemporary representations compare to previous time period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tish Asian representations in the media have until recently been quite stereotyped, focussing on Asian cultu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from the outside looking in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an characters on TV were in the 1960s and 70s often played by white actors  who ‘browned up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the documentar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A Brimful Of Asia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looks at the history of Asian representation on TV. Make some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haji on the 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BFI plot synopsis (and annotat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story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are Asian women treated/represented 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haji on the Beach (19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ed by Gurinder Chadha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nd it like Beckham, Bride and Prejud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eenplay by Meera Syal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oodness Gracious Me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Kumars at No.4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ed the early 90s Asian experience. It looked at how ‘second generation’ Asians, born in this country dealt with cultural integration and being a ‘British –Asian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verse group of British women of South Asian descent go on a day trip to the beach in Blackpool. Despite their differences—the older women are more traditional and conservative, the younger women more Westernized—they eventually manage to see common gr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Bhaji on the Beach’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(1992) (off to Blackpo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reenonline.org.uk/film/id/442547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Make notes on the represent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i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ian women on the bus – old and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ical film examp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watch these clips from the following fil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’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My Beautiful Launderette’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1984) (evi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reenonline.org.uk/film/id/443819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y Beautiful Launderette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ortrayed the lives of Asian immigrants to Britain in the 80s and their attempts to open businesses and prosper in Thatcher’s Briat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ome notes on the sheet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6:03:13Z</dcterms:created>
  <dc:creator>#</dc:creator>
  <dc:description/>
  <dc:language>en-US</dc:language>
  <cp:lastModifiedBy>maninder singh</cp:lastModifiedBy>
  <dcterms:modified xsi:type="dcterms:W3CDTF">2010-11-25T16:11:53Z</dcterms:modified>
  <cp:revision>12</cp:revision>
  <dc:subject/>
  <dc:title>British Asians in Cinema</dc:title>
</cp:coreProperties>
</file>